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96B-3306-49B2-A434-EAB3038F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8F5-5214-41A9-9BAE-63930E55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611-2901-4BA4-99D2-ACABE05C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AE0-0BC0-417C-82FC-3A9B0CE5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49C0-A5C6-41D7-A320-F27A576F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C903-A7F5-4493-8273-1514CD5D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DEAC-D40A-46A5-B26D-3DEE1D03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D171-41E8-40E6-833A-12BE0CFA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117C-C662-44A2-93CA-BEAD37E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544B-70B0-43BF-B152-E0196029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3782-D2C0-481E-B546-615AC74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6C4-AF73-44EC-87A0-70E25DFD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3FF9-59FF-4B01-8B95-CEA152A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AC3-0872-464B-A714-A4C3F0C8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8FFF-784F-47BE-B63F-65BB2F9E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86BA-AF8E-439D-ADE2-88161591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343F-1DFE-4936-A650-CBB2261B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14E-C336-428F-B9DE-C0E08C56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00A-0EAF-43A0-9141-7DCE86D5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A24-F113-4B08-8344-D376F0DB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996-33D6-45BE-8EED-B8B57098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154-2ABF-49A7-9317-402B670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DBC-B87B-45D4-BF5C-68936F19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424-D6AD-4612-86B8-37B51955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818F-E7FB-4020-A14A-035CA2D6B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3EA8-9ACD-4D96-851A-932B6566C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cf.wisconsin.gov/childcare/licensed/CommManuals/dcf251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reas.gov/press/releases/docs/chdcare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1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 to Child Care Ser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-day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more than 4 but less than 24 hours per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ities  and hours are regularly schedul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developmentally appropriate educationa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lly serves meals and sna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dergarten programs may also be avail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op-in group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provided in churches and shopping malls or recreational facilities (YMCA or FESTIVA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ld’s parents must be on prem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censing not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mily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 to 8 children may be cared for at  one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ten a variety of 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 atmosphere-usually in provider’s 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chool and Nurse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only last 4 or fewer hours per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ers regularly scheduled hours and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ents provide sna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mentally appropriate educational activities plan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hool-age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ration of children to ad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s a variety of activities before and after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er care “camps” and vacation care may sometimes be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ck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s temporary care for ill children and is usually relatively expens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ice is limited to children with minor injuries and mild illn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ratio of children to adults is comm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eeds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serviced by child care that is tailored to unique groups of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include children of many 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tios depend upon type of activities provided and needs of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er school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sponsored by recreational departments, YMCA’s, churches and school distri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ies are usually theme orien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ld car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fit or nonprofi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fit centers pay ta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profit centers do not pay sales tax or income ta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rograms may participate in government-sponsored service 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fit or non profi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in-owned: by company or corporation usually owns multi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urch-sponsored: operated by a church board. Members have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result of economic factors and personal choice, most mothers work outside the home, creating the need for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types of child care are avail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er-staffing patterns establish a chain of command, and each position encompasses its specific responsibil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loyer-sponsored: offered as a benefit by some employ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mily child care: work in their homes typic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-home care: Nannies, Au pairs live in or outside child’s home where care takes pl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ent cooperatives: owned and managed collectively by a group of parents- requires a high degree of participation by their me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ck child care: setting could be hospital, child care center, or child’s home.  Usually temporary c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nter Staff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larger centers include an assistant director who is responsible to the dir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head teacher is usually responsible for planning and implementing curricu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nter staffing, 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stant teachers work under the guidance of the head teacher in the class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pport staff may consist of a custodian, cook, and bus dri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many smaller child care centers, the support staff’s responsibilities are part of the teaching staff’s job descri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it out for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manual for licensed child car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dcf.wisconsin.gov/childcare/licensed/CommManuals/dcf251.HT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gin, open powerpoint, click on the link above.  Peruse the site until you are given your assignment/handout with further instru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background of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ally women have shouldered the responsibilities for child 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 new perspectives ignored all working women’s vast obligations of domesticity and wage ear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ent perspectives in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treas.gov/press/releases/docs/chdcare.pd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lf of all child care arrangements are provided outside the family 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WI, in 1999, 36% of children under the age of 6 were in paid child care while their parents work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oup child care settings are needed more than ev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r number of mothers in the workf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single-parent fami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er geographical distance between family me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umber of children rose 136% in last centu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acted in every state to establish minimum requirements for health and safety of children and child care provi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y important that each child care center summarize for its employees what is required by law of them to identify, document, and report child abuse and negl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islation, 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ld care centers and family child care providers who emphasize high quality care strive to go beyond the minimum regulation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er ratios of children to caregi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is designed to meet the social, emotional, intellectual and physical development of young child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earch indicat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ctors support quality car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appropriate educational background of caregivers—child development and early childhood tra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previous experience of caregivers, such as employment in the child care field, not just parenting and babysit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onsistency of staff (low staff turnov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ld Care Ser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-day group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op-in group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chool and nursery 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-age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ck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needs grou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er schoo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02:35:59Z</dcterms:created>
  <dc:creator>LYN</dc:creator>
  <dc:description/>
  <dc:language>en-US</dc:language>
  <cp:lastModifiedBy>Lyn</cp:lastModifiedBy>
  <dcterms:modified xsi:type="dcterms:W3CDTF">2009-10-30T13:03:45Z</dcterms:modified>
  <cp:revision>15</cp:revision>
  <dc:subject/>
  <dc:title>Unit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